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BC5-6C1C-4D59-AA88-CCE43935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CDF-6052-43A3-85B7-47B65CFA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C7D6E-E29E-4400-AE52-94D91A6D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65777-90E1-4FE2-B24C-A635A5ED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A4B19-5A00-4CC3-8D1B-08F5028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7C1C6-BCA2-424C-81DE-E492B74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BF3E0-85B1-4463-A157-02E2E92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60FE1-00B5-4548-91F1-0EB9A19C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30BBB-0A33-4728-AA3C-AEABFBEB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3CB64-9E4E-4E0B-8471-63933282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FFAB2-7429-421C-BDE6-946621DB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0156B-B32B-4A6D-AE31-74CA3287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551-CB77-4D8B-99A3-A156E004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5A071-8953-43E7-8332-7E700975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B3B69-C480-4E06-998A-F4FC9E06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2E3C1-51B9-49A6-8443-82A94F3B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2DC05-1791-463E-AD84-CBD50CE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AF475-80A8-4966-9224-D627F16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39737-566E-4A2B-BF9A-E14BF09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3D26E-9470-4D39-B135-631ECE96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75B15-2524-4B30-8550-0881F95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27307-DC63-4351-8D38-723FEB7C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06A47-E5FF-4CC2-BAD0-85077BD8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587-18F8-4DF2-9401-96D7F3FF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B4B5C-7493-46C0-B847-8B3184E1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315B6-71FA-498A-8CB8-87CC2A4E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5B7AC-85C8-48B7-A254-6D09F019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22A1F-08E1-42A9-B4CF-348408D9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9D305-A4EF-4D02-9251-EAB43CC2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C6F53-8BDF-4631-B2A0-B51103DD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F335D-5833-4288-B0CB-35BF28EE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46000-DD8C-4486-8AB7-414D8C6B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1229B-1628-484C-BF32-D525693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D72CD-6006-407A-8DB5-11719AFC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B548-1057-4490-AB47-0A192312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8A68F-34CB-46DC-A655-33D320AA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5D5C6-9C1A-4343-A276-4A4E605A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20D49-2DDB-40A9-AAC0-9F352A3E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DC6BC-F3D5-4031-B187-584896E3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AF04C-4DBF-41CC-B963-9E294FC7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3AEE2-1326-4A82-A768-1741D92E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03696-4601-4177-82F7-95BA9FA1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5220C-0E9E-45F6-AA35-408F864B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6F143-B7CF-46B8-B9B8-58475526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548E0-9438-49DB-93DC-310E25C7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2D22-C256-49C6-8100-7094C93B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E5F61-BB9B-4FC0-BC57-7D47977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2DC00-0FF3-4D38-8321-117482A9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501DF-7184-4A32-9886-82DBDE06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FCF1D-F862-4A6B-B71E-6E1C5BF8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B6276-9DDA-4497-886E-41517E52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5ED7B-A7E9-4309-AF77-4046D08E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895FC-F9BE-471F-B007-65D467A1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AD51F-0F64-44AC-8081-BDED46C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10DA9-E458-45A6-AC6C-CC091F63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DF0B5-944D-4171-8BC7-A2F9D447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4413-91BE-4BC1-A0FB-5FE203F3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DBE4B-2AFE-441B-81E9-618E624C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488BC-D327-47EB-A80F-3178354E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00781-4D62-4DF4-AFE2-59A6AF5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7B063-E6DF-418A-9217-622CDF91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0360F-4792-4036-82D5-19185069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EF882-2FBB-446C-A671-F22D32EC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85303-56A9-44DD-AD37-7888099D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8C136-3B78-4433-AF54-1448A372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F3D57-8935-4051-995D-D6B2C2F7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0E35D-A256-4CC5-8118-E0F69D28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CCC-0E2A-48AD-AB68-E5C65F94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96FA7-34D3-4FE7-BBB9-64EEFFFC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3DDCB-063F-4FBC-B4B3-5A73C851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625E6-1654-4544-9120-C0180220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05207-742D-49A5-BA68-15D2B0F8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383BE-93D3-414C-972F-DD2F423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DE2E7-62F2-4E74-B1BC-530B273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C884B-171D-48B4-935D-C43B4ADB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F2B57-1CDE-4CFF-ABFE-29359E09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57B84-2210-45D4-91DE-43332908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4E03A-4900-4B54-8C2A-73A4AB31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B645-D00C-4ACB-ADAB-73CD571C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4AEAE-820A-4B7D-9243-B427017C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A29DC-D02E-4015-B72E-22DAD3CA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03B77-41E9-4798-A898-876A4C57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2F16B-1BB1-4AF2-AD29-802E87B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9012F-80D6-4500-AB67-EA1A703D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B5F99-9CF5-4E48-845F-4013B13B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5C367-54A4-4AA2-BE4C-88E45D2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EB352-8BE9-4180-A4DF-BBA725C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E4F3D-E625-4E62-BF73-49CF4F48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E4FC4-3C3E-4AA3-A123-060714E8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E067-197E-44C1-BAC2-0457DBBA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45519-A4CF-49BC-81CD-C1BC7B73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7C0CD-E6CC-49C3-884E-CF00E9B5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EA7AB-4F2A-4CC9-BDAD-09C140B0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4E772-0A24-44FD-9398-884000F9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B75A1-92FA-4E01-AB5D-18B19B1C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30A8E-BA01-45E8-9083-89CB9D61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E0A41-19A3-4AF0-8294-577CACA4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E2EA3-D151-485C-9130-472AE9BF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87A1F-26E9-46AB-87A6-1C62B71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06836-6C83-4284-9541-461B852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48F8-65FB-4AB8-B15A-F0DDDB15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204B6-DF3D-4EFB-A81F-8D8F2447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E68F8-DC30-4F7D-9549-282585CA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4989B-44AF-4C28-B216-F02A2A9B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C4ABE-0EBB-48A7-B4D9-38B95535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D7514-B581-4521-8CF8-6C13762E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1C14F-5324-4724-BB17-D1A16753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559ABB-E59C-4D35-A47F-393C2774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03F1D-BCFB-44A7-B97B-B5684F47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A7CE7-1D3F-4E50-A797-F0BACB1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A5550-8B95-45AC-905B-3923945A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C14-A8D4-4D79-AC89-AA516FC5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BC44-A367-4700-A544-D253290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A62C1-043F-4323-9A76-7CAB245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D3235-1D68-48C1-99D7-520767D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EFB4FD-79FA-4C22-9F81-0B482E97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251E1-BFC2-4E19-B2E2-830ADB62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10673-9EAA-4957-B981-243C37DB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492E-025C-4EC4-AD8C-F04EA433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8AB0-2F56-4A48-8998-81A81FE9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98F1-6908-4539-B903-585D5FB4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2503-78A2-4B4A-A6CD-B2487C9F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0D54-2E02-42E8-A9DE-CE5ECF3F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C08B-F0A3-42C7-9BE5-D81C029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5313-1F7D-4AB9-9EA8-693E575E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EEF5-14AD-4C90-A6BD-A993B3C9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90B5-E0EB-47DC-B344-D368464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0CE-A991-467B-BC64-6AE30FEB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6B56-B16A-4FAB-B001-0E91229E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EC7E-3A0B-48BF-A912-ABAEFE0E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5AB1-0A0C-4DA8-B98C-C702C47E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53F2-AEA2-4F24-AC32-568B129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1B58-3178-4320-8430-F3B14963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2A66-9F5D-4081-9A98-FF8E0DF1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7603-EE40-4AA8-984A-A5FF80C4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3FC6-734B-4E06-B7F7-B31FC282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7C69-C569-4C3E-83E9-EED70821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6E0BD-FA24-4C0A-B6E7-72D71DE4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723-D015-4404-9275-40E91FFA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2C56B-748A-4C85-9170-0AC328D9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84C7-82E1-4DA9-AEE3-75F1962D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30AF-1046-4BCA-8147-E77A0333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072EB-E074-4770-BFEA-92540C38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2A5FA-32A7-415F-B95C-E52947CC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CFA5-559C-490F-AB2B-F2133BA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7A46-F875-4B48-B736-74594E0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092BC-50AE-4426-8DAA-95C00918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281F-0370-4FAD-A8B7-26481DFA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0815-BFA9-4B49-859E-DE8AD670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2B5-CB29-436F-A3AD-505623B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D723-27BD-4221-986E-74B4D636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E5975-9544-4A74-8CCE-15420B46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970C-3110-4AEC-AF3C-59CCFE5C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691E-D6EB-45B4-AA7B-709D172E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91B9-C781-4306-9329-6EB30B9D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1E120-395B-46D9-8932-72D525C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B4C23-F93E-4D21-8F66-82E5C0CF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DC38-53F3-439A-89CA-4592BA2D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0DC62-F8A3-4559-B438-7744D128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6203-62B8-4EBD-90EB-9B0EA0A5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948-4DD2-4047-A782-ABCEF12B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1FC89-9FAE-4C56-B979-287136A4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8BE1-F7C9-4D90-95C4-899A646F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585A-258B-49CA-B867-833BC57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F09C3-E4BA-47CE-81C6-91C47BB9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D4547-BF05-4725-A903-FCE8BE5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E2210-7096-439F-A0DF-ED3591A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6EE7D-33AC-417E-84F4-9CC8926E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11D2-BD2E-4709-823A-6A102462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ADA7E-D5D0-4796-BDAB-7160D70A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2CEC-41E3-4519-8DE1-47C975B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B2A-5D91-4444-A16C-669CD36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1D080-D804-44D9-B7EB-52BDBF44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2031E-D327-41E3-9FB5-7A01DBAB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04943-046E-48CA-8FF1-06EA0DAE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CF1E3-3316-476B-B140-DE186530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F0CCC-01AE-408E-A627-149BD5E3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E2B1-9379-4E06-AD0E-BC51DA1B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BC3C4-C7D4-4C55-9A59-EF544E5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002DB-D43B-4C24-A2C6-852E4E59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870CF-28B5-4C43-92A5-901D3154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0B433-548E-4F73-B197-F68C991C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178-59CD-426D-9894-E5878397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84E8C-F153-4E08-95EC-1F38377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82EF3-1608-41F6-B2EC-BFBE060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242BC-3188-4892-BAB5-79957BAC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2D3BD-151F-4A21-BE73-52E571D7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7B6D8-7611-4DBA-BBB4-03527B0E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CDA0A-69FD-4EC0-B6DF-1738D0B1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7FF77-506E-40C3-A3F7-48505A7C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878DD-E8B9-4301-BC49-1935F548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00FCF-551D-48E3-8A30-349BD49A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420A7-079C-4B08-973E-14153E35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B33-3A7D-49EB-A84F-8D82AA5F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8A562-2E08-41F8-9440-6FE3F790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19FEB-4C3A-4B4C-91B4-080080C0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D2D2A-0DC4-4BCA-87FE-086F6F7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5B401-4830-47E7-A0AB-94E00B98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5D577-57A7-4105-952B-3740F7D3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F213D-F3D5-4495-9F98-04AFFA5A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FA283-366D-40FB-BF2E-9BC46C19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B100C-67D7-45EB-9CE1-72BF3D1A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3AE0B-46A9-453A-BFCF-E7AEF249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9AF91-46B7-4C68-932E-C574B78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1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14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71F1-2A1B-4CBF-963F-7971AF9AF19D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621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634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654624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83760" y="66434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895C-2640-4D53-BDEB-8128885391E0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690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703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4222800"/>
            <a:ext cx="1019160" cy="6760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83760" y="432576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75AD-DE17-4590-AC3D-F961D8CA17CB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759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772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4222800"/>
            <a:ext cx="1019160" cy="6760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355760" y="863640"/>
            <a:ext cx="342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6127920" y="3873600"/>
            <a:ext cx="342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83760" y="432576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CE4-DBCF-439F-B05D-23DDC178B6D0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830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843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654624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83760" y="66434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C1BB-4F0F-4070-B9C4-BB4E82648E4A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899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912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654624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355760" y="863640"/>
            <a:ext cx="342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6127920" y="3873600"/>
            <a:ext cx="342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83760" y="66434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F119-21AC-4C93-9698-343FA98DC04F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970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983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654624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83760" y="66434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BD82-EA9E-4983-94BA-F67E79FBF5C8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1039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1052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D591-9BA7-4884-8CBD-FB5B045215CE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1108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1121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6CC0-A853-477C-9CE1-67D3926FDE6B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69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82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23760" y="5761080"/>
            <a:ext cx="1046160" cy="104292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17160" y="60386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C24B-A5CC-4EFB-96DC-55F0ACD30280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138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151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6049-7D92-4DB3-9E55-A0CEE7DD47FE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207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220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4222800"/>
            <a:ext cx="1019160" cy="6760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83760" y="432576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7EFC-D8A1-4C77-B3BE-CFF12DC6253C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276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289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A6A1-9AAB-4BBA-8BAF-8AF08415F6BD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345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358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F227-3A0F-4060-8ECF-E101F0A7394D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414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427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3A0C-1D9D-42A0-8575-6F12040A9C73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483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496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F5B9-A217-4991-A985-19C0FE79C15F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552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565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50B4-C054-4A3A-AC1F-24A36BDB3CAB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23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зиция Тернейского муниципального района в  рейтинге оценки качества управления бюджетным процессом  за  2018 год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Rectangle 2"/>
          <p:cNvSpPr/>
          <p:nvPr/>
        </p:nvSpPr>
        <p:spPr>
          <a:xfrm>
            <a:off x="2292480" y="356724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1178" name=""/>
          <p:cNvGraphicFramePr/>
          <p:nvPr/>
        </p:nvGraphicFramePr>
        <p:xfrm>
          <a:off x="217440" y="1835280"/>
          <a:ext cx="6408720" cy="4789440"/>
        </p:xfrm>
        <a:graphic>
          <a:graphicData uri="http://schemas.openxmlformats.org/drawingml/2006/table">
            <a:tbl>
              <a:tblPr/>
              <a:tblGrid>
                <a:gridCol w="3014640"/>
                <a:gridCol w="1697040"/>
                <a:gridCol w="1697040"/>
              </a:tblGrid>
              <a:tr h="1233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мониторинга за 2018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ая оценка качества управления бюджетным процессом (с учетом соблюдения бюджетного законодательств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качества управления бюджетным процессом (с учетом соблюдения бюджетного законодательств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нейский муниципальны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4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9" name="Rectangle 152"/>
          <p:cNvSpPr/>
          <p:nvPr/>
        </p:nvSpPr>
        <p:spPr>
          <a:xfrm>
            <a:off x="1100160" y="4959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1771280" y="4876920"/>
          <a:ext cx="208080" cy="296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3T23:41:32Z</dcterms:created>
  <dc:creator>Anna</dc:creator>
  <dc:description/>
  <dc:language>en-US</dc:language>
  <cp:lastModifiedBy>Anna</cp:lastModifiedBy>
  <cp:lastPrinted>2018-01-22T06:16:27Z</cp:lastPrinted>
  <dcterms:modified xsi:type="dcterms:W3CDTF">2020-04-23T06:23:05Z</dcterms:modified>
  <cp:revision>11</cp:revision>
  <dc:subject/>
  <dc:title>Презентация PowerPoint</dc:title>
</cp:coreProperties>
</file>