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F37-7723-46F8-9442-928AAD54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6B0-AB26-4686-AB69-5FCD0776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B80D0-1253-4939-8BFC-FBB6E4A2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30CC5-8CD5-446E-B32C-9E188C2F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42566-3E82-48D9-810B-E72945FD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6645F-5EA4-42D8-A08C-A3D70A5C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FAAD6-78BA-4E1D-987B-A73351DB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F0398-5D9E-4184-AD77-6C1FB257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71B6F-87C6-469C-9BD2-CD36868D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CE755-CCF3-4823-B29B-9FB8D8BE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2BB34-A57C-4705-AA1B-9CBBB03F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18DDD-4D74-4859-80C0-169DAD16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4F72-3273-4DFB-B8EF-05C2C714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1A2C2-D8E8-4400-8AC5-E981ACEB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E5F85-4AA9-4F3F-A15F-B383605F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41D1B-B7B3-41B6-BBEB-9C1F8AB0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B40EC-3ED0-44DB-AFA6-39212054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C9B97-C2F7-4B08-B8B5-21C8F2A9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7BC88-C898-4CA4-82B1-56623E45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65CDE-EE44-4421-840F-28E5BB3B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8C063-98F6-43EF-A3C0-AF228FCD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1BDBD-1B75-4D52-AA8A-25A0101D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632D4-422F-436D-BF24-CA1A3237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F35-06E0-425B-AF07-88C1EDC5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98849-F956-49CD-ADD0-19932379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62466-DBE6-488C-9AB2-5192969C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1506D-69A9-444C-A72A-C1F8F7B7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2F18C-7AFB-41D8-BF93-7083F3F3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0C9CA-EFEC-4568-BE7D-3E666085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7D8DA-20DC-4096-9969-C5A5D539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54752-0077-4C04-94A2-220E642A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E33AA-9A2E-4A78-AA01-5FF81F34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47E76-175C-4C73-8175-81458269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BD075-5DDE-42EA-A0D6-8E22DB63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BDE6-DA11-43B7-846B-2CC685DB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BB2FF-2B43-4B7F-B576-BA85E4E8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DFA25-648F-450D-A1FF-9696E402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15B2F-0841-467B-92C8-EACABA4C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D367C-CF15-44F2-A1D8-C19C4619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3ECC2-DE2E-4358-B7C2-C69ED8EA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A3316-053F-47C6-B63E-FD1EDB85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13F58-2244-4C6D-B750-F3EBE6AD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1F50F-6177-47C0-985A-3434333A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8F4C9-8634-47A6-A137-A638366C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4D067-B9C2-4E55-80F0-AD7714BF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F79D-9EDC-434D-8607-B7820423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C52F0-3AA9-4B62-9BF0-7CACDF76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81384-CE51-47E7-A7C6-E9F2EDBF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228A6-B2F4-48D0-ABB8-FB3D514D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DC902-4888-447D-A4EB-C3700F81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FEA1A-EB56-4471-9314-0417DF35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7ABAA-E738-468B-A04B-5AD76444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7BAC7-CE89-48DB-B81B-0A6905DA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CDD333-9FC6-48F7-8453-17B60C58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BDE2C1-FAB7-4D22-AA3F-DA32174C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19594-1590-4310-ADBA-7821D3E8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A691-0325-4F94-8710-1DB16E75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DA712-A622-4B06-9760-8CFD7E4B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6B7C2-1AA1-4514-B78F-D0B772F8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D7198-16E3-4612-9B4A-1A697994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B12EF9-819A-415E-943C-D7B5DC01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8AA822-6677-4854-A154-4574BB7D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82BD9-BA92-4F52-BCE5-9D28B6FC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924022-467C-4A3D-B06B-68CF2D25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DEB3A8-7406-4BD9-AF6A-B8E59ABD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39EAA1-2D88-4873-941F-D353E419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08918E-D5F8-4651-978E-9E13D167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D463-020B-405C-82E6-4E780E60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2B3233-7AE4-4DD2-BC70-29DFE786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37F807-6D05-4CD7-96C6-76A99DCC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F845A4-47E9-43D1-903F-CD831DF9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9C3F91-AAC6-41BF-9E70-B3304233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6830E-D6B3-4822-82F4-DB851BB1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FCA7AD-AFEF-4FE4-A3CB-2FEBE6E1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2DC8C-47AF-48C6-9CA5-F31695A3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B5950-6986-4AF1-8D0E-C065CCDA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219C51-0756-4FA9-B5E1-AB9C37DA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C12008-DCBA-4D1B-B1B1-225F29AF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FB53-B351-4DF4-93BC-D44598C4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DD1E23-BA16-4E94-8275-32A1F4D2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A6DD7D-9A2C-420F-B449-03F91E3E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3E7AC3-EFE0-4E8E-8558-E99E8EB4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91D6A0-AAF3-41FD-900F-242FE809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12AFAD-E49B-4DF2-AF8F-C48DE463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E1DE15-DA7C-408D-8C0E-7C67A4DF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FD4349-A6E2-4997-9D40-2ACE3FE8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43F24-860A-4B0E-9682-3ADCDC19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CD057C-94BF-47D3-A6F8-66C9D3C8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A2DCB1-DD2A-4C51-8F8B-FF8CA5F9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478D-AF0B-4445-8635-E0D367F1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173586-BD9B-44C9-8B12-D5F2998F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F3EAF2-B358-4E97-A89F-4FE8347C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A31C3A-C321-4B59-8FAF-EEBC70B7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309006-AE4A-4717-A06E-ED8759A1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8D5E7B-4711-49F7-B4AA-EDDB0469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FC366-7B95-4CDB-AFC7-5B61A9F9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AF82F9-54EE-461E-B030-FD6ED02A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7D5266-620F-4E3E-ADE0-7356DE01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EDB3AB-56BA-49DC-AF4D-7BE4A4F3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E5FD84-C785-4034-9EF6-9AB2DA5A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5B26-9B4E-4BE2-A73A-FB9D917A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1DD89F-7F3E-471B-BCF6-4E8FDEE7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8C6CD2-2C60-44FE-8E8D-9FF06605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C90FA0-5FB3-466B-B316-1EF05730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C2E838-7EBC-4A58-83D4-18676F64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3B0FDA-4B03-40A4-B1D3-401D27B0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9FF642-1DB5-4580-A097-C49777BC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BC238C-8CEA-4D2B-91D2-8D880B80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5C5171-11F7-4D6F-8394-679E62BC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AC0E56-8DD7-47A9-8822-24DD5428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1E6255-8A64-4A58-BAE7-5EADB7F7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6D20-9505-4E5B-B842-EA67D653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244F-94AC-41A8-BA08-2AA44DAB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8F2D44-31C2-42AC-9156-692223D5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4380CC-80B7-451B-9D68-9463B5B6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A1672F-4328-420A-B690-2953C4EB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B58F58-F8B2-44D8-896D-493DAF5E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CBBA4B-2613-42E0-81B9-01839784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45F5-028D-4EFC-ABAE-59505E88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6D1E-C228-4A30-9680-4795E166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CF2A-C9B0-4753-9CAE-59A6256D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B99F-E413-4FC4-B435-0B603937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70330-5421-4A8A-89C3-C252CA42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83DA7-0513-472B-9521-5011711D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F3FE0-568C-4833-B886-62A55C2A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3953D-2991-45A5-AF8F-01D7104D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3C578-3427-49F2-8609-ED3B8213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B0D-B1C1-49A3-805B-4E6229D4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96869-2B61-4A23-9144-6AC1C125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DE0D2-FFFC-433A-B407-41D68200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1B60E-0145-4E4B-82C9-26BF3E2E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2F0D7-CCC9-4C4F-9D2B-3F98E9CC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F0D43-275B-4B87-9B67-1B281734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03DAD-4117-41B9-B3D7-1DDE6C88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D0EA0-B479-4EE5-A0AD-BBE8875F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351A9-4BF6-4906-AB0B-44CC0354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FF2C5-0FF5-4EE4-BC53-129F3D65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E3D8E-761D-425C-9601-556727E3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2AF-3A23-4C1B-B5D4-CBD2F1CA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0298F-174F-4B34-905F-095D9492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68C15-9285-479F-B116-C03E0A8D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BCDEB-4C70-4E95-93C1-E3546211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AB98E-764D-4847-8F02-27AFFFE5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255DC-F901-47AD-A5E0-43C39530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9149F-147A-4DB0-A7CC-9B4F9B86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E2D4F-497D-4B06-B297-8E3318DB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BBCDC-1EF2-4D0A-82B4-DFF47441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7E653-47FF-40F1-9BB6-9956EFB6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4CF2C-D943-4258-ABBE-FD6B0750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1B70-643C-4D27-9722-00A88EAE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C0AF3-01D9-47FD-8C64-D6F404BC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BF4FD-9610-4380-9242-F229CE73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71285-884F-4F92-B436-72D87A83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A5BCE-4D42-41EF-97B3-C8D7ED98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5FC81-8017-40A3-A958-AF21CBBB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20802-FFB3-4C5A-9ABA-24E8FC32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17F55-4261-4F65-96FD-583D561F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7CEFE-4816-4119-B5FC-57200CCE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E2F8B-00E5-4FFE-B8DD-AD62E622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BBFF9-9E77-420D-A34C-F66909A1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D1E7-27F4-406E-82A2-1BDDB181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653DA-462B-4C0B-8FCA-C86148D9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80912-4B62-4DAC-ADE6-06B4C73B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48949-D7AC-4A30-99EE-B41D188B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008C4-F5AF-4805-8A20-6CF4AD68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9D7A2-46C4-4A29-ABF4-ACBF5E2D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4301B-14DE-4238-BDD7-F92AD153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DBAAF-8BED-4B39-B26E-5BBCE813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040F9-9E49-4D81-AAC6-31DBFAEE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804E4-B461-40BD-9DAE-36D9CB3C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55439-95EB-4FCC-8636-F356659C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90E-CFAB-4E81-88C7-29B4A661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D903D-041A-4956-8A53-01C5CA6E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4B8E2-38CC-4614-B677-EAEBACA6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DB41E-1F68-45CC-AD9F-57AF853F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1AB38-0DDB-4EB8-BB2B-B7CAA645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9F69F-3D59-4D8E-B241-828CE526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3E486-8389-4EDD-9619-B6A5C2A6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3D83C-F141-4EA9-BED2-FCD644F1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30DA6-81F7-4795-BA84-07D3C650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33B67-220F-43D8-B6EE-F0DCA4AA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077E6-B429-4588-B7C8-7471935D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A008-8C9C-4048-BF54-D8DB8DB7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78007-23A7-4FF8-87CE-D85E3AAC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4B522-058D-4593-ACD8-5E6AA889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4E5AF-9685-46FC-843E-FE2AB58C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C5B62-9E00-482D-AFEA-69F4D35E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987F7-BFAF-41B3-9198-363B8E3E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75880-2311-4FC2-9E87-A79AA047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D8D64-800C-4448-83D7-DA261A93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18B44-7898-4B53-A0A6-BBEEFB02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DD32F-1BD5-4CDB-99E6-0AF26F5C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6256C-7AFB-44C1-B6B6-D29EC96E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249D-2B97-4A02-B565-8FC049BC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458720" y="831600"/>
            <a:ext cx="4941720" cy="79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6F095-0D16-41CC-BCB1-E662DA5B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C7152-A738-412F-84A6-12BAE2FC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05810-3B8B-4686-851A-0E15B76E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CF78A-2828-4263-B577-7251CFD4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457280" y="5551200"/>
            <a:ext cx="494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ACC1B-97DD-41A3-BA66-D7A420AB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990600" y="284472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5728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990600" y="5551200"/>
            <a:ext cx="241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2B779-FEF7-4535-BDEF-78DF0A3D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12876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800240" y="284472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45728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12876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4800240" y="5551200"/>
            <a:ext cx="159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514CF-289B-4D6A-8727-B170CDD8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48E6D-4406-40EA-B2A8-68C4EA04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BC583-9CE6-4732-B4BB-D505A685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0DDA9-5836-4CBA-B2E8-55B7FD4A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1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14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383760" y="105084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7463-E46A-49A5-B92C-475F9C9D95C8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621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634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654624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383760" y="6643440"/>
            <a:ext cx="438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ABDD-122C-41A2-B984-C62F661E270B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690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703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4222800"/>
            <a:ext cx="1019160" cy="6760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383760" y="432576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B55D-BF6F-4A37-B4AB-402905EF55D2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759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772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4222800"/>
            <a:ext cx="1019160" cy="6760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355760" y="863640"/>
            <a:ext cx="342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6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6127920" y="3873600"/>
            <a:ext cx="342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383760" y="432576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51FA-823A-40A5-9923-2E0A20A7293E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830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843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654624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383760" y="6643440"/>
            <a:ext cx="438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E7DE-B24E-453F-A9BF-877E74859C22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899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912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654624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355760" y="863640"/>
            <a:ext cx="342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6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6127920" y="3873600"/>
            <a:ext cx="342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383760" y="6643440"/>
            <a:ext cx="438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29C8-0838-4A96-A154-B7565F06A2C4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970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983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654624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383760" y="6643440"/>
            <a:ext cx="438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8276-6CDE-4E4E-B0C0-98C089C75314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1039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1052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94716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383760" y="105084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F685-7177-4A25-848A-E1733E269687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1108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1121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94716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383760" y="105084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F2FA-D77C-4644-8373-13DC70986390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69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82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23760" y="5761080"/>
            <a:ext cx="1046160" cy="104292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317160" y="6038640"/>
            <a:ext cx="438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E002-B90C-4490-BDEB-C60D2781B031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138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151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94716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383760" y="105084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2B09-B665-41F6-9570-63870F9B201B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207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220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4222800"/>
            <a:ext cx="1019160" cy="6760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383760" y="432576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9B57-7A91-4EEC-8CFD-3D2EF8631460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276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289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94716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83760" y="105084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3FB4-3B5B-4635-9717-1F8518599322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345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358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94716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383760" y="105084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5CC9-89FC-4A32-A196-B0E85AB98ACB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414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427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94716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383760" y="105084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D3FE-8C27-4700-A5F3-50EE8B3E0947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483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496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94716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383760" y="105084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258C-86A7-4353-AF0A-A43749017108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304920"/>
            <a:ext cx="1486080" cy="8851680"/>
            <a:chOff x="0" y="304920"/>
            <a:chExt cx="1486080" cy="8851680"/>
          </a:xfrm>
        </p:grpSpPr>
        <p:sp>
          <p:nvSpPr>
            <p:cNvPr id="552" name="Freeform 11"/>
            <p:cNvSpPr/>
            <p:nvPr/>
          </p:nvSpPr>
          <p:spPr>
            <a:xfrm>
              <a:off x="0" y="3433680"/>
              <a:ext cx="52200" cy="8348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66960" y="4208760"/>
              <a:ext cx="336960" cy="3096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420480" y="7263000"/>
              <a:ext cx="317520" cy="18936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500040" y="8672040"/>
              <a:ext cx="89280" cy="484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52200" y="4268520"/>
              <a:ext cx="428400" cy="443844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1520" y="304920"/>
              <a:ext cx="55080" cy="390384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40680" y="3925440"/>
              <a:ext cx="40680" cy="65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401040" y="7305480"/>
              <a:ext cx="99000" cy="136656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403920" y="1865520"/>
              <a:ext cx="1082160" cy="539748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480600" y="8706960"/>
              <a:ext cx="84240" cy="4496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401040" y="7146360"/>
              <a:ext cx="19080" cy="2955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442800" y="8326800"/>
              <a:ext cx="124200" cy="8298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15840" y="0"/>
            <a:ext cx="1463760" cy="9137520"/>
            <a:chOff x="15840" y="0"/>
            <a:chExt cx="1463760" cy="9137520"/>
          </a:xfrm>
        </p:grpSpPr>
        <p:sp>
          <p:nvSpPr>
            <p:cNvPr id="565" name="Freeform 27"/>
            <p:cNvSpPr/>
            <p:nvPr/>
          </p:nvSpPr>
          <p:spPr>
            <a:xfrm>
              <a:off x="15840" y="0"/>
              <a:ext cx="307080" cy="5868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340560" y="5754960"/>
              <a:ext cx="262800" cy="2107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623880" y="7816680"/>
              <a:ext cx="267480" cy="13208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322920" y="5819040"/>
              <a:ext cx="342720" cy="29811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289440" y="1718640"/>
              <a:ext cx="108000" cy="4036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689400" y="8762040"/>
              <a:ext cx="83160" cy="375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311040" y="5476680"/>
              <a:ext cx="51120" cy="6818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603720" y="4194000"/>
              <a:ext cx="875880" cy="36226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665640" y="8800560"/>
              <a:ext cx="74880" cy="3369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603720" y="7862760"/>
              <a:ext cx="85680" cy="899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603720" y="7696800"/>
              <a:ext cx="23760" cy="3038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623880" y="8430120"/>
              <a:ext cx="130680" cy="7074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36440" cy="9144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947160"/>
            <a:ext cx="1019160" cy="67788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58720" y="831600"/>
            <a:ext cx="4941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457280" y="2844720"/>
            <a:ext cx="494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1" marL="557280" indent="-21420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2" marL="8571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3" marL="120024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4" marL="1542960" indent="-171360"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5829480" y="8180280"/>
            <a:ext cx="57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457280" y="8180280"/>
            <a:ext cx="4286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383760" y="1050840"/>
            <a:ext cx="4381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8FEE-ACDD-4685-9E8A-7689FA47A2C9}" type="slidenum">
              <a:rPr b="0" lang="ru-RU" sz="15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23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зиция Тернейского муниципального района в  рейтинге оценки качества управления бюджетным процессом  за  2018 год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Rectangle 2"/>
          <p:cNvSpPr/>
          <p:nvPr/>
        </p:nvSpPr>
        <p:spPr>
          <a:xfrm>
            <a:off x="2292480" y="356724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1178" name=""/>
          <p:cNvGraphicFramePr/>
          <p:nvPr/>
        </p:nvGraphicFramePr>
        <p:xfrm>
          <a:off x="217440" y="1835280"/>
          <a:ext cx="6408720" cy="4789440"/>
        </p:xfrm>
        <a:graphic>
          <a:graphicData uri="http://schemas.openxmlformats.org/drawingml/2006/table">
            <a:tbl>
              <a:tblPr/>
              <a:tblGrid>
                <a:gridCol w="3014640"/>
                <a:gridCol w="1697040"/>
                <a:gridCol w="1697040"/>
              </a:tblGrid>
              <a:tr h="1233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мониторинга за 2018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ая оценка качества управления бюджетным процессом (с учетом соблюдения бюджетного законодательств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качества управления бюджетным процессом (с учетом соблюдения бюджетного законодательств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нейский муниципальны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4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9" name="Rectangle 152"/>
          <p:cNvSpPr/>
          <p:nvPr/>
        </p:nvSpPr>
        <p:spPr>
          <a:xfrm>
            <a:off x="1100160" y="4959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1180" name=""/>
          <p:cNvGraphicFramePr/>
          <p:nvPr/>
        </p:nvGraphicFramePr>
        <p:xfrm>
          <a:off x="11771280" y="4876920"/>
          <a:ext cx="208080" cy="2966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3T23:41:32Z</dcterms:created>
  <dc:creator>Anna</dc:creator>
  <dc:description/>
  <dc:language>en-US</dc:language>
  <cp:lastModifiedBy>Anna</cp:lastModifiedBy>
  <cp:lastPrinted>2018-01-22T06:16:27Z</cp:lastPrinted>
  <dcterms:modified xsi:type="dcterms:W3CDTF">2020-04-23T06:23:05Z</dcterms:modified>
  <cp:revision>11</cp:revision>
  <dc:subject/>
  <dc:title>Презентация PowerPoint</dc:title>
</cp:coreProperties>
</file>